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900000" y="444600"/>
            <a:ext cx="4601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ALLATION BLOCK TICK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 USE OF THIS FORM, SEE AR 37-108; THE PROPONENT IS D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1000" y="977760"/>
            <a:ext cx="6570720" cy="74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NR     TYPE DOCUMENT          NUMBER OF DOCUMENTS            DATE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63            OMA-EXPENDITURE                15                    *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UND DISBURSEMENT JOURNAL                    OTHER  (                   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CCOUNT      DEBIT       CREDIT        ACCOUNT         DEBIT          CR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21       $ 19,527.00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/A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$ 24,4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32       $  1,402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0       $ 24,991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2       $   (57.00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          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OSTED TO AN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320" y="457200"/>
            <a:ext cx="654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632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440" y="1447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440" y="1600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40" y="1905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4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1606680"/>
            <a:ext cx="0" cy="41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440" y="57150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911240"/>
            <a:ext cx="0" cy="34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4165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440" y="2133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440" y="2362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440" y="2666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440" y="29718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440" y="3276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440" y="35812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44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2440" y="4191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440" y="44956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440" y="4800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440" y="5105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440" y="6019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440" y="66294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440" y="7391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1400" y="8369280"/>
            <a:ext cx="36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 FORM 3974  1 NOV 72 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45720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800" y="852804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 1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38080" y="5715000"/>
            <a:ext cx="16002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571840" y="342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37800" y="882972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 11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36080" y="685800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Handwriting"/>
              </a:rPr>
              <a:t>Jack L. Dani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07000" y="4618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11240" y="60948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11240" y="91440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25440" y="129528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25440" y="167652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2800" y="2436840"/>
            <a:ext cx="6148080" cy="29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44560" y="51814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6480" y="549108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61120" y="671040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9560" y="801864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492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7520" y="8458200"/>
            <a:ext cx="6235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5308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7520" y="5410080"/>
            <a:ext cx="622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800" y="861048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 12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53080" y="55627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800" y="859788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 14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84040" y="228600"/>
            <a:ext cx="6345360" cy="846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NDARD FORM 23                                              CONTRACT NO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ANUARY 1961 EDITION         CONSTRUCTION CONTRACT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DAFI01 **C 1391  .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SEE INSTRUCTION ON REVERSE)      DATE OF CONTR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0 NOV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AME AND ADDRESS OF CONTRACTOR                               CHECK APPROPRIATE 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 ] INDIVI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&amp;M GLASS CO.                                            [ ] PARTN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39 MAPLE AVENUE                                         [ ] JOINT VEN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ANNAH, GA  31314                                      [X] CORPORATION IN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HE STATE OF: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PARTMENT OR AGENCY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PARTMENT OF THE AR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TRACT FOR (WORK TO BE PERFORMED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PAIR AND GLAZING OF WINDOWS TO INCLUDE FRO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LAC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T. STEWART, GA. 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TRACT PRICE (EXPRESS IN WORDS AND FIGURES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EN THOUSAND TWO HUNDRED THIRTY DOLLARS                            $10,23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MINISTRATIVE DATA (OPTIONAL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*2020 76-9505 117078.Z0-25CZ W23DFB*3350009/L10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ROGRESS PAYMENTS ARE AUTHORIZED AT THE RATE OF 15% PER BLDG COMPLET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(HEREINAFTER CALLED THE GOVERNMENT), REPRESENT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CONTRACTING OFFICER EXECUTING THIS CONTRACT, AND THE INDIVIDUAL, PARTN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OINT VENTURE, OR CORPORATION NAMED ABOVE (HEREINAFTER CALLED THE CONTRACTOR)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UTUALLY AGREE TO PERFORM THIS CONTRACT IN STRICT ACCORDANCE WITH THE 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VISIONS (SF23-A), LABOR STANDARDS PROVISIONS APPLICABLE TO CONTRACTS IN EXCESS OF $2,000 (SF 19-A), AND THE FOLLOWING DESIGNATED SPECIFICATIONS, SCHEDULES,DRAWINGS, AND CONDITI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ORK SHALL BE STARTED:                   WORK SHALL BE COMPLE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 DEC **                                    15 FEB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1040" y="11430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228600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876920" y="228600"/>
            <a:ext cx="0" cy="197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1040" y="25146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1040" y="29718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1040" y="358128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1040" y="403848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11040" y="784872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24080" y="7848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920" y="4495680"/>
            <a:ext cx="63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7800" y="875016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15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7880" y="6089760"/>
            <a:ext cx="635364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 WITNESS WHEREOF, THE PARTIES HERETO HAVE EXECUTED THIS CONTRACT AS OF THE 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TERED ON THE FIRST PAGE HEREO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                     CONTRA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S/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WENDELL PURCHASE, LTC, INF  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 H&amp;M GLASS COMPANY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NAME OF CONTRACTO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URCHASING &amp; CONTRACTING OFFICER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     /S/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OFFICIAL TITLE)                         (SIGNATU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PARTNER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TIT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STR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HE FULL NAME AND BUSINESS ADDRESS OF THE CONTRACTOR MUST BE INSERTED IN THE SPACE PROVIDE O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ACE OF THE FORM.  THE CONTRACTOR SHALL SIGN IN THE SPACE PROVIDED ABOVE WITH HIS USUAL SIGNATUR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YPEWRITE OR PRINT HIS NAME UNDER THE SIGNATUR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800" y="875016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16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37800" y="875016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17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800" y="875016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18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"/>
          <p:cNvGraphicFramePr/>
          <p:nvPr/>
        </p:nvGraphicFramePr>
        <p:xfrm>
          <a:off x="-109440" y="0"/>
          <a:ext cx="696744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9440" y="0"/>
                    <a:ext cx="696744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37800" y="883908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19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3840" y="385920"/>
            <a:ext cx="63536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0160" y="2284560"/>
            <a:ext cx="62852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76480" y="4195800"/>
            <a:ext cx="60796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7800" y="875016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20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50040" y="8874000"/>
            <a:ext cx="343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03000" y="8839080"/>
            <a:ext cx="704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35640" y="1066680"/>
            <a:ext cx="499500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UDENT NO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MONTH RENTAL BEGINNING 1 DEC @ 1,200 PER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1760" y="139680"/>
            <a:ext cx="658224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ARE IN THE BLOCK TOTAL FUNCTION                        SIC:   AV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*BTC  SRC  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                                 * TBO  ONL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      TYPE      C    JULIAN        TOTAL         PAY ST      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BER      ACTION     I     DATE        AMOUNT          DSSN     NUMBER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 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 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800" y="852156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 2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800" y="875016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22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40040" y="219240"/>
            <a:ext cx="1864080" cy="393480"/>
          </a:xfrm>
          <a:prstGeom prst="rect">
            <a:avLst/>
          </a:prstGeom>
          <a:noFill/>
          <a:ln w="572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 AMERITECH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37400" y="495360"/>
            <a:ext cx="78660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 26,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62920" y="927000"/>
            <a:ext cx="149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O. BOX 70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VANNAH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61480" y="1562040"/>
            <a:ext cx="1621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ST SIGNAL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LDG 200, RM 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T. STEWART, GA 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00600" y="1079640"/>
            <a:ext cx="1301760" cy="54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OUNT P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7160" y="2141640"/>
            <a:ext cx="6321240" cy="54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URRENT CHARGES                                                                               TOTAL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ST DUE AFTER....  JAN 5, **                                                             AMOUNT DUE:  $14,18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47600" y="2890800"/>
            <a:ext cx="6486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TACH AND MAIL TOP PORTION WITH YOUR CHECK MADE PAYABLE TO GEORGIA BELL FOR THE TOTAL AMOUNT D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1480" y="3429000"/>
            <a:ext cx="5873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35040" y="3619440"/>
            <a:ext cx="1374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LLING SUMM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76320" y="3645000"/>
            <a:ext cx="112320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912)  355-X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689720" y="4152960"/>
            <a:ext cx="85032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 26, **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1520" y="4533840"/>
            <a:ext cx="6599160" cy="100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VIOUS                                                                                                PAST DUE              CURRENT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LL                           PAYMENTS             ADJUSTMENTS                  AMOUNT              CHARGES     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3,965.00                   $13,965.00                   $0.00                                        0.00                  $14,185.00                 $14,18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807080" y="1295280"/>
            <a:ext cx="1282680" cy="298440"/>
            <a:chOff x="4807080" y="1295280"/>
            <a:chExt cx="1282680" cy="298440"/>
          </a:xfrm>
        </p:grpSpPr>
        <p:sp>
          <p:nvSpPr>
            <p:cNvPr id="510" name=""/>
            <p:cNvSpPr/>
            <p:nvPr/>
          </p:nvSpPr>
          <p:spPr>
            <a:xfrm>
              <a:off x="4807080" y="1295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67280" y="13017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358920" y="5473800"/>
            <a:ext cx="6036840" cy="32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MMARY OF CURRENT CHAR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FOR DETAILED CHARGES - SEE PAG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NTHLY SERVICE .........................................................................................................................$12,87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NG DISTANCE................................................................................................................................$  1,31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DIANA BELL CURRENT CHARGES............................................................................................$ 14,18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&amp;T 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FOR DETAILED CHARGES - SEE PAGE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NG DISTANCE..................................................................................................................................$        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&amp;T COMMUNICATIONS CURRENT CHARGES..........................................................................$       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TAL CURRENT CHARGES..............................................................................................................$14,18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03-3116 117095.00-2330 PHN12**GEOBELL/U300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 CERTIFY THAT THE SERVICE CALLED FOR IN THE DELIVERY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S BEEN RENDERED PER THE TERMS &amp; SPECIFICATIONS OF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D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                                                                             /S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 AMERITECH COMPANY                                       RUPERT O. TAYL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J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6280" y="7238880"/>
            <a:ext cx="598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52600" y="8096400"/>
            <a:ext cx="1714320" cy="419040"/>
          </a:xfrm>
          <a:prstGeom prst="rect">
            <a:avLst/>
          </a:prstGeom>
          <a:noFill/>
          <a:ln w="381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800" y="875016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23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800" y="868680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24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3611520" y="6858000"/>
            <a:ext cx="12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800" y="884880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25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7800" y="867420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26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3611520" y="6858000"/>
            <a:ext cx="12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7800" y="882972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27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800" y="867420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28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5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37800" y="882648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29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23840" y="385920"/>
            <a:ext cx="63536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00160" y="2284560"/>
            <a:ext cx="62852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76480" y="4195800"/>
            <a:ext cx="60796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7800" y="868680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30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207000" y="4618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11240" y="60948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11240" y="91440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25440" y="129528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25440" y="167652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2800" y="2436840"/>
            <a:ext cx="6148080" cy="29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44560" y="51814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76480" y="549108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61120" y="671040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9560" y="801864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492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17520" y="8458200"/>
            <a:ext cx="6235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55308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7520" y="5410080"/>
            <a:ext cx="622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7800" y="868680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32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228600" y="457200"/>
            <a:ext cx="6319800" cy="8308440"/>
            <a:chOff x="228600" y="457200"/>
            <a:chExt cx="6319800" cy="8308440"/>
          </a:xfrm>
        </p:grpSpPr>
        <p:grpSp>
          <p:nvGrpSpPr>
            <p:cNvPr id="80" name=""/>
            <p:cNvGrpSpPr/>
            <p:nvPr/>
          </p:nvGrpSpPr>
          <p:grpSpPr>
            <a:xfrm>
              <a:off x="228600" y="457200"/>
              <a:ext cx="6319800" cy="8308440"/>
              <a:chOff x="228600" y="457200"/>
              <a:chExt cx="6319800" cy="8308440"/>
            </a:xfrm>
          </p:grpSpPr>
          <p:sp>
            <p:nvSpPr>
              <p:cNvPr id="81" name=""/>
              <p:cNvSpPr/>
              <p:nvPr/>
            </p:nvSpPr>
            <p:spPr>
              <a:xfrm>
                <a:off x="228600" y="457200"/>
                <a:ext cx="4756320" cy="231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006560" y="500040"/>
                <a:ext cx="3359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ATERIAL INSPECTION AND RECEIVING REPOR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8600" y="7653240"/>
                <a:ext cx="6319800" cy="9669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7480" y="7696080"/>
                <a:ext cx="900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3. CONTRACTOR USE ONLY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69520" y="4387680"/>
                <a:ext cx="290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924480" y="4387680"/>
                <a:ext cx="2399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ROOF ON BLDG #567 COMPLETE.  PROGRES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PAYMENT OF 10% AUTHORIZED.R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927720" y="5276880"/>
                <a:ext cx="116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28080" y="5423040"/>
                <a:ext cx="87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928080" y="5576760"/>
                <a:ext cx="87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940720" y="43876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,402.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72960" y="4387680"/>
                <a:ext cx="522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,402.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75240" y="1235160"/>
                <a:ext cx="49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575240" y="1235160"/>
                <a:ext cx="495360" cy="272880"/>
              </a:xfrm>
              <a:custGeom>
                <a:avLst/>
                <a:gdLst/>
                <a:ahLst/>
                <a:rect l="l" t="t" r="r" b="b"/>
                <a:pathLst>
                  <a:path w="58" h="32">
                    <a:moveTo>
                      <a:pt x="58" y="32"/>
                    </a:move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615920" y="1260360"/>
                <a:ext cx="287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7.   PAG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413240" y="7251840"/>
                <a:ext cx="2135160" cy="411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469400" y="7251840"/>
                <a:ext cx="1803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* If quantity received by the Government is th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65080" y="7346880"/>
                <a:ext cx="1520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same as quantity shipped, indicate by (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9760" y="1508040"/>
                <a:ext cx="2049480" cy="138240"/>
              </a:xfrm>
              <a:custGeom>
                <a:avLst/>
                <a:gdLst/>
                <a:ahLst/>
                <a:rect l="l" t="t" r="r" b="b"/>
                <a:pathLst>
                  <a:path w="240" h="16">
                    <a:moveTo>
                      <a:pt x="0" y="0"/>
                    </a:moveTo>
                    <a:lnTo>
                      <a:pt x="240" y="0"/>
                    </a:lnTo>
                    <a:lnTo>
                      <a:pt x="24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039760" y="1508040"/>
                <a:ext cx="1800" cy="13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067480" y="1525680"/>
                <a:ext cx="3513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4. B/L   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79920" y="3970440"/>
                <a:ext cx="1068480" cy="409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625360" y="3987720"/>
                <a:ext cx="89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0.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734440" y="3944880"/>
                <a:ext cx="672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        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05720" y="4192560"/>
                <a:ext cx="383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MOU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79920" y="4379760"/>
                <a:ext cx="1068480" cy="1778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413240" y="3970440"/>
                <a:ext cx="324000" cy="409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447440" y="3987720"/>
                <a:ext cx="89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8.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48600" y="394488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1680" y="4064040"/>
                <a:ext cx="96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73720" y="419256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13240" y="4379760"/>
                <a:ext cx="324000" cy="1778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7400" y="3970440"/>
                <a:ext cx="2792520" cy="409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56240" y="3987720"/>
                <a:ext cx="107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6.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192320" y="3962520"/>
                <a:ext cx="10159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TOCK/PART NO.         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78080" y="3987720"/>
                <a:ext cx="4032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               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800080" y="3962520"/>
                <a:ext cx="703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SCRIPTION  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267560" y="4081320"/>
                <a:ext cx="18799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(Indicate number of shipping containers - type of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622160" y="4192560"/>
                <a:ext cx="12002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container - container number.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919240" y="419256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7400" y="4379760"/>
                <a:ext cx="2792520" cy="1778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7960" y="6294600"/>
                <a:ext cx="1963800" cy="1368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00440" y="6311880"/>
                <a:ext cx="423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. ORIG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8600" y="3970440"/>
                <a:ext cx="658800" cy="409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2440" y="3987720"/>
                <a:ext cx="4550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5.             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1440" y="4192560"/>
                <a:ext cx="210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TE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8600" y="689040"/>
                <a:ext cx="6319800" cy="469800"/>
              </a:xfrm>
              <a:custGeom>
                <a:avLst/>
                <a:gdLst/>
                <a:ahLst/>
                <a:rect l="l" t="t" r="r" b="b"/>
                <a:pathLst>
                  <a:path w="740" h="55">
                    <a:moveTo>
                      <a:pt x="0" y="0"/>
                    </a:moveTo>
                    <a:lnTo>
                      <a:pt x="740" y="0"/>
                    </a:lnTo>
                    <a:lnTo>
                      <a:pt x="74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228600" y="688680"/>
                <a:ext cx="1440" cy="46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43720" y="714240"/>
                <a:ext cx="54216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ublic reporting burden for this collection of information is estimated to average 30 minutes per response, including the time for reviewing instructions, searching existing data sources, gathering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44800" y="782640"/>
                <a:ext cx="50893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nd maintaining the data needed, and completing and reviewing the collection of information.  Send comments regarding this burden estimate or any other aspect of this collection of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40840" y="851040"/>
                <a:ext cx="5373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information, including suggestions for reducing this burden, to Department of Defense, Washington Headquarters Services, Directorate for Information Operations and Reports, 1215 Jefferso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8040" y="919080"/>
                <a:ext cx="4766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avis Highway, Suite 1204, Arlington, VA 22202-4302, and to the Office of Management and Budget, Paperwork Reduction Project (0704-0248), Washington, DC 20503.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8600" y="1235160"/>
                <a:ext cx="238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28600" y="1235160"/>
                <a:ext cx="2382840" cy="272880"/>
              </a:xfrm>
              <a:custGeom>
                <a:avLst/>
                <a:gdLst/>
                <a:ahLst/>
                <a:rect l="l" t="t" r="r" b="b"/>
                <a:pathLst>
                  <a:path w="279" h="32">
                    <a:moveTo>
                      <a:pt x="279" y="32"/>
                    </a:move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4240" y="1270080"/>
                <a:ext cx="13176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. PROC. INSTRUMENT IDEN. (CONTRACT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681200" y="12445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1080" y="1336680"/>
                <a:ext cx="915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DAFI01-**-C 1713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432240" y="1235160"/>
                <a:ext cx="1143000" cy="272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68960" y="1270080"/>
                <a:ext cx="6757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6. INVOICE NO./DAT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1508040"/>
                <a:ext cx="990720" cy="411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7480" y="1525680"/>
                <a:ext cx="5540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. SHIPMENT NO.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78040" y="150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69640" y="1601640"/>
                <a:ext cx="270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72-8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39760" y="1508040"/>
                <a:ext cx="2049480" cy="274680"/>
              </a:xfrm>
              <a:custGeom>
                <a:avLst/>
                <a:gdLst/>
                <a:ahLst/>
                <a:rect l="l" t="t" r="r" b="b"/>
                <a:pathLst>
                  <a:path w="240" h="3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2039760" y="1507680"/>
                <a:ext cx="1800" cy="27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72160" y="148284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72160" y="16034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089240" y="1508040"/>
                <a:ext cx="2459160" cy="411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119480" y="1525680"/>
                <a:ext cx="6483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5. DISCOUNT TERM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27840" y="1601640"/>
                <a:ext cx="494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5/10, N/3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0000" y="8628120"/>
                <a:ext cx="1158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D Form 250, NOV 9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59080" y="8688240"/>
                <a:ext cx="447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USAPPC V1.00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984920" y="457200"/>
                <a:ext cx="1563480" cy="231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422680" y="492120"/>
                <a:ext cx="586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Form Approved 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25920" y="568440"/>
                <a:ext cx="584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OMB No. 0704-0248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79920" y="1235160"/>
                <a:ext cx="1068480" cy="272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20240" y="1260360"/>
                <a:ext cx="723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8. ACCEPTANCE POIN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611440" y="1235160"/>
                <a:ext cx="820800" cy="272880"/>
              </a:xfrm>
              <a:custGeom>
                <a:avLst/>
                <a:gdLst/>
                <a:ahLst/>
                <a:rect l="l" t="t" r="r" b="b"/>
                <a:pathLst>
                  <a:path w="96" h="32">
                    <a:moveTo>
                      <a:pt x="96" y="0"/>
                    </a:moveTo>
                    <a:lnTo>
                      <a:pt x="96" y="32"/>
                    </a:lnTo>
                    <a:lnTo>
                      <a:pt x="0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611440" y="1235160"/>
                <a:ext cx="820800" cy="136440"/>
              </a:xfrm>
              <a:custGeom>
                <a:avLst/>
                <a:gdLst/>
                <a:ahLst/>
                <a:rect l="l" t="t" r="r" b="b"/>
                <a:pathLst>
                  <a:path w="96" h="16">
                    <a:moveTo>
                      <a:pt x="0" y="0"/>
                    </a:moveTo>
                    <a:lnTo>
                      <a:pt x="96" y="0"/>
                    </a:lnTo>
                    <a:lnTo>
                      <a:pt x="96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2611440" y="1234800"/>
                <a:ext cx="1440" cy="13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652120" y="1260360"/>
                <a:ext cx="406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(ORDER) NO.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219320" y="1508040"/>
                <a:ext cx="820440" cy="411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52080" y="1525680"/>
                <a:ext cx="560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3. DATE SHIPPED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860480" y="15001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252080" y="1601640"/>
                <a:ext cx="518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0 OCT **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39760" y="1697040"/>
                <a:ext cx="2049480" cy="222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71800" y="1757520"/>
                <a:ext cx="1684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CN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28600" y="3286080"/>
                <a:ext cx="3203640" cy="684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7760" y="3328920"/>
                <a:ext cx="989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3. SHIPPED TO                    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433520" y="3303720"/>
                <a:ext cx="25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58000" y="328608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71080" y="3430440"/>
                <a:ext cx="255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DP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70000" y="3576600"/>
                <a:ext cx="5144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BLDG 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67840" y="3720960"/>
                <a:ext cx="1404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FORT STEWART, GA 313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039760" y="3286080"/>
                <a:ext cx="1392480" cy="179280"/>
              </a:xfrm>
              <a:custGeom>
                <a:avLst/>
                <a:gdLst/>
                <a:ahLst/>
                <a:rect l="l" t="t" r="r" b="b"/>
                <a:pathLst>
                  <a:path w="163" h="21">
                    <a:moveTo>
                      <a:pt x="0" y="0"/>
                    </a:moveTo>
                    <a:lnTo>
                      <a:pt x="163" y="0"/>
                    </a:lnTo>
                    <a:lnTo>
                      <a:pt x="163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2039760" y="3286080"/>
                <a:ext cx="1800" cy="17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8600" y="2603520"/>
                <a:ext cx="3203640" cy="682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68560" y="2646360"/>
                <a:ext cx="595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1. SHIPPED FRO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7840" y="2646360"/>
                <a:ext cx="474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(If other than 9)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5840" y="2646360"/>
                <a:ext cx="1288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39760" y="2603520"/>
                <a:ext cx="733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2039760" y="2603520"/>
                <a:ext cx="1800" cy="17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96840" y="2662200"/>
                <a:ext cx="151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FOB: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953440" y="263700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32240" y="3286080"/>
                <a:ext cx="3116160" cy="684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467880" y="3328920"/>
                <a:ext cx="6620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4. MARKED FOR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207680" y="328608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79920" y="3286080"/>
                <a:ext cx="1059120" cy="179280"/>
              </a:xfrm>
              <a:custGeom>
                <a:avLst/>
                <a:gdLst/>
                <a:ahLst/>
                <a:rect l="l" t="t" r="r" b="b"/>
                <a:pathLst>
                  <a:path w="124" h="21">
                    <a:moveTo>
                      <a:pt x="0" y="0"/>
                    </a:moveTo>
                    <a:lnTo>
                      <a:pt x="124" y="0"/>
                    </a:lnTo>
                    <a:lnTo>
                      <a:pt x="124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5479920" y="3286080"/>
                <a:ext cx="1800" cy="17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32240" y="2603520"/>
                <a:ext cx="3116160" cy="682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68600" y="2646360"/>
                <a:ext cx="10126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2. PAYMENT WILL BE MADE BY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73280" y="274788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D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73280" y="289260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69680" y="3038400"/>
                <a:ext cx="1404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FORT STEWART, GA 313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479920" y="2603520"/>
                <a:ext cx="1059120" cy="179280"/>
              </a:xfrm>
              <a:custGeom>
                <a:avLst/>
                <a:gdLst/>
                <a:ahLst/>
                <a:rect l="l" t="t" r="r" b="b"/>
                <a:pathLst>
                  <a:path w="124" h="21">
                    <a:moveTo>
                      <a:pt x="0" y="0"/>
                    </a:moveTo>
                    <a:lnTo>
                      <a:pt x="124" y="0"/>
                    </a:lnTo>
                    <a:lnTo>
                      <a:pt x="124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479920" y="2603520"/>
                <a:ext cx="1800" cy="179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32240" y="1919160"/>
                <a:ext cx="3116160" cy="684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69680" y="1962000"/>
                <a:ext cx="749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0. ADMINISTERED BY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92640" y="1919160"/>
                <a:ext cx="32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72200" y="2063880"/>
                <a:ext cx="758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P&amp;C OFFICER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69680" y="2208240"/>
                <a:ext cx="1404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FORT STEWART, GA 313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479920" y="1919160"/>
                <a:ext cx="1059120" cy="179640"/>
              </a:xfrm>
              <a:custGeom>
                <a:avLst/>
                <a:gdLst/>
                <a:ahLst/>
                <a:rect l="l" t="t" r="r" b="b"/>
                <a:pathLst>
                  <a:path w="124" h="21">
                    <a:moveTo>
                      <a:pt x="0" y="0"/>
                    </a:moveTo>
                    <a:lnTo>
                      <a:pt x="124" y="0"/>
                    </a:lnTo>
                    <a:lnTo>
                      <a:pt x="124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79920" y="1918800"/>
                <a:ext cx="1800" cy="179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600" y="1919160"/>
                <a:ext cx="3203640" cy="684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7120" y="1962000"/>
                <a:ext cx="7628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9. PRIME CONTRACTOR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81440" y="191916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70360" y="2063880"/>
                <a:ext cx="17229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QUALITY X-RAY SERVICES INC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3965 INDUSTRIAL BLVD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SAVANNAH,   GA 31314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69280" y="2208240"/>
                <a:ext cx="1315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3965 INDUSTRIAL BLVD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1440" y="235440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039760" y="1919160"/>
                <a:ext cx="1392480" cy="179640"/>
              </a:xfrm>
              <a:custGeom>
                <a:avLst/>
                <a:gdLst/>
                <a:ahLst/>
                <a:rect l="l" t="t" r="r" b="b"/>
                <a:pathLst>
                  <a:path w="163" h="21">
                    <a:moveTo>
                      <a:pt x="0" y="0"/>
                    </a:moveTo>
                    <a:lnTo>
                      <a:pt x="163" y="0"/>
                    </a:lnTo>
                    <a:lnTo>
                      <a:pt x="163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2039760" y="1918800"/>
                <a:ext cx="1800" cy="179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044520" y="8637480"/>
                <a:ext cx="1178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Previous edition may be used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737240" y="3970440"/>
                <a:ext cx="742680" cy="409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88720" y="3987720"/>
                <a:ext cx="89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9.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898160" y="3944880"/>
                <a:ext cx="544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       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61960" y="4064040"/>
                <a:ext cx="96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57480" y="4192560"/>
                <a:ext cx="502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IT PRI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79920" y="3970440"/>
                <a:ext cx="733320" cy="4093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738600" y="3987720"/>
                <a:ext cx="4730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7.                   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07000" y="4081320"/>
                <a:ext cx="447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QUANTIT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762720" y="4192560"/>
                <a:ext cx="5356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HIP/REC'D*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8600" y="6157800"/>
                <a:ext cx="4184640" cy="136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560600" y="6167520"/>
                <a:ext cx="1471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ONTRACT QUALITY ASSURANC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0720" y="6192720"/>
                <a:ext cx="89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1.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413240" y="6157800"/>
                <a:ext cx="2135160" cy="1094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454640" y="6183360"/>
                <a:ext cx="12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2. 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616280" y="6157800"/>
                <a:ext cx="1152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         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ECEIVER'S US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464720" y="6346800"/>
                <a:ext cx="1770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Quantities shown in column 17 were receive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466520" y="6432480"/>
                <a:ext cx="1704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n apparent good condition except as noted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443840" y="6738840"/>
                <a:ext cx="18140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ATE RECEIVED           SIGNATURE OF AUTH GOVT RE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455000" y="6918480"/>
                <a:ext cx="4168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YPED NAM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453560" y="7013520"/>
                <a:ext cx="3895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ND OFFIC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413240" y="6705720"/>
                <a:ext cx="735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232240" y="6705720"/>
                <a:ext cx="131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1760" y="6294600"/>
                <a:ext cx="2211480" cy="1368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945520" y="6311880"/>
                <a:ext cx="703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. DESTIN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4400" y="6568920"/>
                <a:ext cx="16344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as been made by me or under my super-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83680" y="6680160"/>
                <a:ext cx="1671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vision and they conform to contract, excep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3320" y="6799320"/>
                <a:ext cx="1742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s noted herein or on supporting documents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06360" y="6423120"/>
                <a:ext cx="119160" cy="136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0720" y="6458040"/>
                <a:ext cx="192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Q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08120" y="6423120"/>
                <a:ext cx="118800" cy="136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8120" y="6475320"/>
                <a:ext cx="1169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CCEPTANCE of listed item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78080" y="6431040"/>
                <a:ext cx="120600" cy="137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49440" y="6475320"/>
                <a:ext cx="192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Q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89200" y="6431040"/>
                <a:ext cx="119160" cy="137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59840" y="6475320"/>
                <a:ext cx="1169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CCEPTANCE of listed item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58280" y="6568920"/>
                <a:ext cx="2001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as been made by me or under my supervision an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59360" y="6680160"/>
                <a:ext cx="18799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hey conform to contract, except as noted here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252520" y="6799320"/>
                <a:ext cx="1113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or on supporting documents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360" y="7362720"/>
                <a:ext cx="4168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YPED NAM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8920" y="7473960"/>
                <a:ext cx="3895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ND OFFIC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43520" y="7362720"/>
                <a:ext cx="4168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YPED NAM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242080" y="7473960"/>
                <a:ext cx="3466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AND TIIT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54840" y="1952640"/>
                <a:ext cx="22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COD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54840" y="2637000"/>
                <a:ext cx="22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COD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154840" y="3321000"/>
                <a:ext cx="22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COD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713240" y="1952640"/>
                <a:ext cx="22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COD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713240" y="2637000"/>
                <a:ext cx="22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COD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713240" y="3321000"/>
                <a:ext cx="221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500" spc="-1" strike="noStrike">
                    <a:solidFill>
                      <a:srgbClr val="000000"/>
                    </a:solidFill>
                    <a:latin typeface="Arial"/>
                  </a:rPr>
                  <a:t>COD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201760" y="7115040"/>
                <a:ext cx="614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13800" y="7132680"/>
                <a:ext cx="1713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859120" y="7115040"/>
                <a:ext cx="1554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83400" y="7132680"/>
                <a:ext cx="1024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SIGNATURE OF AUTH GOVT RE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14280" y="7115040"/>
                <a:ext cx="452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0000" y="7132680"/>
                <a:ext cx="1713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09640" y="7115040"/>
                <a:ext cx="1392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957600" y="7132680"/>
                <a:ext cx="1024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SIGNATURE OF AUTH GOVT RE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70600" y="1235160"/>
                <a:ext cx="409320" cy="27288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48" y="0"/>
                    </a:moveTo>
                    <a:lnTo>
                      <a:pt x="48" y="32"/>
                    </a:lnTo>
                    <a:lnTo>
                      <a:pt x="0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070600" y="1235160"/>
                <a:ext cx="409320" cy="13644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0" y="0"/>
                    </a:moveTo>
                    <a:lnTo>
                      <a:pt x="48" y="0"/>
                    </a:lnTo>
                    <a:lnTo>
                      <a:pt x="48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070600" y="1234800"/>
                <a:ext cx="1440" cy="13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11640" y="1260360"/>
                <a:ext cx="907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F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90480" y="4379760"/>
                <a:ext cx="180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90480" y="4422600"/>
                <a:ext cx="180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90480" y="447516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0480" y="451656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0480" y="455940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90480" y="4611600"/>
                <a:ext cx="1800" cy="1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690480" y="46544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0480" y="46972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0480" y="473868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0480" y="4791240"/>
              <a:ext cx="18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0480" y="483408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0480" y="487692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0480" y="4927680"/>
              <a:ext cx="18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0480" y="497052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0480" y="501336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0480" y="5064120"/>
              <a:ext cx="18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0480" y="510696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0480" y="514980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0480" y="5200560"/>
              <a:ext cx="18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0480" y="524340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0480" y="52862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0480" y="53290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0480" y="5380200"/>
              <a:ext cx="18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0480" y="542304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0480" y="546588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0480" y="5516640"/>
              <a:ext cx="18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0480" y="555948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0480" y="560232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0480" y="56545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0480" y="569592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0480" y="57387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0480" y="5791320"/>
              <a:ext cx="18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0480" y="5834160"/>
              <a:ext cx="180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0480" y="58752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0480" y="591804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0480" y="5970600"/>
              <a:ext cx="18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0480" y="601344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0480" y="60562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0480" y="6107040"/>
              <a:ext cx="18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0480" y="6149880"/>
              <a:ext cx="18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129360" y="7354800"/>
              <a:ext cx="936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29360" y="738036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67240" y="7432560"/>
              <a:ext cx="1582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if different, enter actual quantity receiv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62200" y="7526160"/>
              <a:ext cx="1418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below quantity shipped and encircle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93080" y="7346880"/>
              <a:ext cx="29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) mark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46480" y="979560"/>
              <a:ext cx="3877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LEASE DO NOT RETURN YOUR COMPLETED FORM TO EITHER OF THESE ADDRESSES.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11960" y="1090440"/>
              <a:ext cx="4623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ND THIS FORM IN ACCORDANCE WITH THE INSTRUCTIONS CONTAINED IN THE DFARS, APPENDIX F-401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11920" y="6850080"/>
              <a:ext cx="835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nnis Rom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BO, GM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8600" y="457200"/>
              <a:ext cx="6319800" cy="816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72600" y="6881760"/>
              <a:ext cx="684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8 Oct 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11840" y="6881760"/>
              <a:ext cx="1126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Lucida Handwriting"/>
                </a:rPr>
                <a:t>Michael Gord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82280" y="6494400"/>
              <a:ext cx="684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 Oct 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97120" y="6494400"/>
              <a:ext cx="1051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Lucida Handwriting"/>
                </a:rPr>
                <a:t>Dennis Rom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73520" y="7186680"/>
              <a:ext cx="13716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CHAEL GORD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tracting Ag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921960" y="4861080"/>
            <a:ext cx="304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7096.Z0-25CZ W23DFB*3250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200 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800" y="868680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 3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900000" y="450720"/>
            <a:ext cx="4601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ALLATION BLOCK TICK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 USE OF THIS FORM, SEE AR 37-108; THE PROPONENT IS D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1000" y="977760"/>
            <a:ext cx="6570720" cy="704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NR     TYPE DOCUMENT          NUMBER OF DOCUMENTS            DATE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905        CIVILIAN PAY                1                    *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UND DISBURSEMENT JOURNAL                    OTHER  (                   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CCOUNT      DEBIT       CREDIT        ACCOUNT         DEBIT          CR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20       $161,524.00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/A 21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$161,52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2                   $ 64,213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UDENT NO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CARDS FOR T/A &amp; 21 WILL BE C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 THE SYSTE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ND DETAIL CARDS FOR THE T/A 42 WIL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E COVERED IN MISCELLANEOUS TRANSACTIO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          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OSTED TO AN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52280" y="457200"/>
            <a:ext cx="646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29400" y="46980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32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2440" y="1447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2440" y="1600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2440" y="1905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244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971800" y="1295280"/>
            <a:ext cx="0" cy="410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2440" y="57150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90720" y="1911240"/>
            <a:ext cx="0" cy="34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1911240"/>
            <a:ext cx="0" cy="34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86200" y="1911240"/>
            <a:ext cx="0" cy="34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81480" y="1911240"/>
            <a:ext cx="0" cy="34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2440" y="2133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2440" y="2362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2440" y="2666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2440" y="29718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2440" y="3276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2440" y="35812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244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2440" y="4191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2440" y="44956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2440" y="4800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2440" y="5105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2440" y="6019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2440" y="66294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2440" y="7391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143000" y="571500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209680" y="5715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76720" y="571500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95680" y="571500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10080" y="571500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37880" y="8001000"/>
            <a:ext cx="36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 FORM 3974  1 NOV 72 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333440" y="3429000"/>
            <a:ext cx="5029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295280" y="3467160"/>
            <a:ext cx="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33440" y="4952880"/>
            <a:ext cx="5029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00800" y="3467160"/>
            <a:ext cx="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800" y="868680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33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525780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7800" y="867420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35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800" y="867420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37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7800" y="867420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39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9800" y="2443320"/>
            <a:ext cx="6285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800" y="852156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 4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37800" y="882648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 5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07000" y="4618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11240" y="60948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11240" y="91440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25440" y="129528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25440" y="167652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2800" y="2436840"/>
            <a:ext cx="6148080" cy="29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4560" y="51814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6480" y="549108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61120" y="671040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9560" y="801864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7520" y="8458200"/>
            <a:ext cx="6235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5308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7520" y="5410080"/>
            <a:ext cx="622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800" y="853452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 6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00160" y="2055960"/>
            <a:ext cx="62852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2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6480" y="3656160"/>
            <a:ext cx="6148080" cy="132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TRAVEL ADV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DUE                LAST     U  ORDER   VOUCHER           RECLS/     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DATE  EOR  APC ODC NAME SSN C  NUMBER   NUMBER   AMOUNT  WR-OFF  IBOP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 _ ____  ___  ___ ___ ____ ___ _  ______   _______  ______  ___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0160" y="5103720"/>
            <a:ext cx="61480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6480" y="6558120"/>
            <a:ext cx="60796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7000" y="304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05120" y="4572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05120" y="7621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11430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19320" y="15238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800" y="8610480"/>
            <a:ext cx="6649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 8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7800" y="8610480"/>
            <a:ext cx="6649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 9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00600" y="762120"/>
            <a:ext cx="1447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T. STEWART, GA 31314                   ADSN: 6348               31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52800" y="2894040"/>
            <a:ext cx="6148080" cy="32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TRAVEL ADV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DUE                LAST     U  ORDER   VOUCHER           RECLS/     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DATE  EOR  APC ODC NAME SSN C  NUMBER   NUMBER   AMOUNT  WR-OFF  IBOP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 _ ____  ___  ___ ___ ____ ___ _  ______   _______  ______  ___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7000" y="5587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11240" y="70632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11240" y="101124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25440" y="139212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25440" y="177336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800" y="8610480"/>
            <a:ext cx="668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                                                                                 10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7T16:38:36Z</dcterms:created>
  <dc:creator>Soldier Support Institute</dc:creator>
  <dc:description/>
  <dc:language>en-US</dc:language>
  <cp:lastModifiedBy>Administrator</cp:lastModifiedBy>
  <cp:lastPrinted>2000-12-19T13:29:32Z</cp:lastPrinted>
  <dcterms:modified xsi:type="dcterms:W3CDTF">2004-10-29T17:47:33Z</dcterms:modified>
  <cp:revision>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03843554</vt:r8>
  </property>
  <property fmtid="{D5CDD505-2E9C-101B-9397-08002B2CF9AE}" pid="3" name="_AuthorEmail">
    <vt:lpwstr>sandra.charity@us.army.mil</vt:lpwstr>
  </property>
  <property fmtid="{D5CDD505-2E9C-101B-9397-08002B2CF9AE}" pid="4" name="_AuthorEmailDisplayName">
    <vt:lpwstr>Charity, Sandra M SFC</vt:lpwstr>
  </property>
  <property fmtid="{D5CDD505-2E9C-101B-9397-08002B2CF9AE}" pid="5" name="_EmailSubject">
    <vt:lpwstr>PS 211</vt:lpwstr>
  </property>
  <property fmtid="{D5CDD505-2E9C-101B-9397-08002B2CF9AE}" pid="6" name="_ReviewingToolsShownOnce">
    <vt:lpwstr/>
  </property>
</Properties>
</file>